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60FE-DDC8-4500-9708-ACF244972E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52F8-2EB6-4F7D-B4D3-81030DEEA3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4FAF-771C-4643-8A55-9FE383F40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1580-EF04-4D98-99C6-B7380092AF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0841-8715-4F7A-8792-85D2C26981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C007-2AC5-4273-A1FA-982D181B03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0FD2-3DF4-4741-8FDE-0125D57573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085F-9AD5-420F-8442-7C2AB74790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296B-BDA9-4F18-94DF-DD11AAA6A0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6BB3-0F08-413D-9606-B695F69EB1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DE3-49FE-40CF-8858-684DF264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8C0-7E96-4D7E-A288-7625C1E2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D8A-E99B-4D5E-B995-38327D40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7B6-2E5E-4B61-A06B-CDA58721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A529-9B42-4498-97E3-C03A4899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7366-16DF-464E-82F2-C0540CF0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3833-AF9A-4BD3-A6E0-17E8F9BB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33E7-6AA3-4D69-9983-7B944016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0DAE-A387-41BE-8A98-DAD187E8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2DAC-DD55-4ABE-9A47-A3E08116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75D6-E518-4C10-A7DB-4993BC40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595-6D90-4CA1-88CF-6F53318B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D1F9-171F-4C02-B8E4-59B705FF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9033-8E51-4EA6-9A0B-6F07D230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8F6F-BDB6-4ACA-960F-A6FFD289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54C3-87BC-4C9A-A6D4-390AA346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F80E-7296-4D0F-B14B-21B76586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8CB5B-7911-476C-8EB3-6EBF390D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56207-6FCB-4C0A-B24F-193A456C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0A680-D3E9-44A8-AB11-44CF1E9B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9C9EF-8124-4E98-9781-D0F32409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A531D-4B24-4FC7-A115-45BCECEA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99E-4830-47BE-9E3E-426F31EC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DAEA1-CD43-4176-BAF7-4D2B9DFC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24CCE-4909-4632-A9F2-D3963EFF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53DF4-CCC9-4DE1-8EEB-13C0A4C2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9E396-4DB2-48C5-8150-B2882CB0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818D1-1EF0-4651-BBF1-48731F48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1EE1D-8AC6-498B-9D20-1E87B5CB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59CD6-6CB6-40C0-8766-03B3BC64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986A70-F0C7-4BE4-8B2E-E155625F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684A3C-F622-4220-827D-26E5B10F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0DAD12-F0C1-462F-929A-47381319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86B-FEBF-4859-BEF7-73202D05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D2578A-62A0-4D5F-95C2-5AD0B7E0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DED58-83CE-4707-A992-EB81EE00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A0401-0AC3-495E-9BF2-75CBDA9E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4A630-3E64-40F9-BCEB-DF5009A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3721E-E875-45BB-B2EA-AF7FAA8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75B92-22D8-48BD-A4B4-7C8FF93D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F81E4-0599-4479-A1F5-423A9C49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D20AB-AE30-4936-BC99-233AF2C0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E57E0-874E-4E54-83F4-4A44EE39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0E2DD-A801-4990-A4AF-CC1EB1B2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ED7-C86B-4822-83EE-82311CE7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75F8A-FCB5-4179-BDBB-6A4AABCE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1B27A-0C38-4CE9-937D-0F743712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EB1BE-CD11-423B-8D6C-3547A275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DCB58-8A8D-449A-A8F1-8B6607C4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7E43E-843B-436F-843B-E35B3BDD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84BAD0-1AA9-435A-836C-0E4A03DD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199B6-47D8-4F79-9A10-EF9C9830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07ADC-CD3F-4FE3-9A35-82D4CE25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93AA0F-CCCA-4E23-8CFB-5AA36480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2F5A3-BB2D-4349-AB7A-A7A0DF14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A5A-A1DC-40A1-85A5-E90B4762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66644-DD12-47BF-958B-AD902336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DE358-1A03-40CD-A197-ADCA4CDA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C6F7D-ACE0-4289-B197-989B2764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D6231-DC1C-45C5-A57D-46916D85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6EFA0-BD82-4C04-BF8D-0C3086CB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40ADE-0409-40F1-861F-837E4DD8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64B43-8D09-4ECC-815F-DEF2BEBD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2FCD1-5D6B-44A5-9F1A-9D4BCD96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6223D-8B4D-4956-9CEA-20E80C5E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7E98A-F8EF-46EE-AD24-87AC64E8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6434-3A5E-4177-9EED-71537A05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212A5-E41F-4BDC-9A87-38AADA64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01839-0F9D-4335-907D-F79357D7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376CC-3C92-4D6E-95C3-F836D3EF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CD7A5-3FBF-49E3-B7BE-ACDD8B8E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5CF49A-A89C-4C12-B425-6B1CE3D3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3BD6B-9AF6-49CB-A37F-A41EC5FA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8CBA99-8C51-4173-BE3A-043F4E12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CBD87D-E2F5-44AA-B289-8A89A56D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1C4A8B-C982-4743-89D0-542FF5D4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40D9D6-8E49-493C-9112-A00FE154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57B-B224-41DD-B787-493A1FE6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5199F8-E759-4905-A48D-589DB430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AC3A83-CD17-4E19-AA83-BDAE9D31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33D61E-574C-4FDD-8D85-545B2660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7E73B-C170-47EA-9667-658137BB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BE4232-9672-4608-9A9A-404AF5C6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B1B56-306E-43C7-8B8C-F002733C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796E4-8F0A-4EDB-AC4E-66769AB2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60835-6C35-4C03-89C9-7126D1C6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CE544-0152-4234-B3FD-DD0810CE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715EF-7DCA-49B2-9E5E-05538F91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8EB-450D-43B0-A3C6-6E8E24CE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AFBA7-3A2A-4E45-A9E3-62E3EE8D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029A6-1FD2-4A0E-8780-49AE8B79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A13E7-7560-4116-8050-3D39F493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BD8AC-A39F-4C1A-B08C-920A4ECA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BD2BF-1EEF-4EF4-9391-EE8D667C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4694F-E63A-4E56-9885-A2EBD19D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1C49E-DB49-4C5D-848F-DFCD4319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7BFB-5C32-4464-B3C0-6D902A39E848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F22D-4940-4DFC-93D7-89F9EAF6B738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32BD-1642-4308-B654-238BF1F8E142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32F1-37C8-4A34-A6E6-DEB7F9DF26D6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B903-AB3C-40E4-85BE-84AC9122B649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C1C4-2F5D-42F0-BA58-261721185CD8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A8E2-2A43-45C7-9D82-3508B487F30C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B848-902D-4128-9591-9D5601694B41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5520" y="164304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dc3"/>
                </a:solidFill>
                <a:latin typeface="Tw Cen MT"/>
              </a:rPr>
              <a:t>DATA NEEDS FOR A MODE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Model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68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epend 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Questions to be addres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hoice of model log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sired outpu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Popul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alid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ey 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Avail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14680" y="5929200"/>
            <a:ext cx="6215040" cy="785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A modeller’s dilemma: Built your model around you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Build a model and then gather the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2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3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14"/>
          <p:cNvSpPr/>
          <p:nvPr/>
        </p:nvSpPr>
        <p:spPr>
          <a:xfrm rot="2412600">
            <a:off x="1318680" y="1006560"/>
            <a:ext cx="2819520" cy="4862520"/>
          </a:xfrm>
          <a:prstGeom prst="ellipse">
            <a:avLst/>
          </a:prstGeom>
          <a:solidFill>
            <a:srgbClr val="94b6d2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addressing a generic public health ques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2" name="Oval 15"/>
          <p:cNvSpPr/>
          <p:nvPr/>
        </p:nvSpPr>
        <p:spPr>
          <a:xfrm rot="1558200">
            <a:off x="3634920" y="1670040"/>
            <a:ext cx="2605320" cy="5135400"/>
          </a:xfrm>
          <a:prstGeom prst="ellipse">
            <a:avLst/>
          </a:prstGeom>
          <a:solidFill>
            <a:srgbClr val="ba8f2d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785880" y="4857840"/>
            <a:ext cx="200016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Prim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2786040" y="6286680"/>
            <a:ext cx="250020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Second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92" name="Down Arrow Callout 8"/>
          <p:cNvSpPr/>
          <p:nvPr/>
        </p:nvSpPr>
        <p:spPr>
          <a:xfrm>
            <a:off x="3500280" y="1643040"/>
            <a:ext cx="857520" cy="1071720"/>
          </a:xfrm>
          <a:prstGeom prst="down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What determi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INCID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eft Arrow Callout 11"/>
          <p:cNvSpPr/>
          <p:nvPr/>
        </p:nvSpPr>
        <p:spPr>
          <a:xfrm>
            <a:off x="6000840" y="4214880"/>
            <a:ext cx="1714320" cy="85716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What Determines pro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eft Arrow Callout 13"/>
          <p:cNvSpPr/>
          <p:nvPr/>
        </p:nvSpPr>
        <p:spPr>
          <a:xfrm>
            <a:off x="6429240" y="2214720"/>
            <a:ext cx="1214640" cy="78552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How large  are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15"/>
          <p:cNvCxnSpPr/>
          <p:nvPr/>
        </p:nvCxnSpPr>
        <p:spPr>
          <a:xfrm>
            <a:off x="1071360" y="4071600"/>
            <a:ext cx="1929240" cy="1857960"/>
          </a:xfrm>
          <a:prstGeom prst="straightConnector1">
            <a:avLst/>
          </a:prstGeom>
          <a:ln w="76320">
            <a:solidFill>
              <a:srgbClr val="94b6d2"/>
            </a:solidFill>
            <a:miter/>
            <a:tailEnd len="med" type="triangle" w="med"/>
          </a:ln>
        </p:spPr>
      </p:cxnSp>
      <p:sp>
        <p:nvSpPr>
          <p:cNvPr id="396" name="Right Arrow Callout 21"/>
          <p:cNvSpPr/>
          <p:nvPr/>
        </p:nvSpPr>
        <p:spPr>
          <a:xfrm>
            <a:off x="857160" y="4786200"/>
            <a:ext cx="1071720" cy="714600"/>
          </a:xfrm>
          <a:prstGeom prst="right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risk fa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disease subgroup (eg: AMI, UA, CA, HF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umber of dea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incide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isk factors effect measures (RR or b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prognosi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e fatality rates for each disease group (rat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ventions that reduce case fatality (RR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 of those interventions (%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ake into account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Trends of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risk facto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uptake of treatm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ata to validate the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ed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ome last (but not least) data ne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to support assumption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eeded to fill gaps in knowled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y are guesses, but the better the data supporting the guess the better the gu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 exampl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Engl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fatality rates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Scott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SLIDE  data adjusted using England/Scotland SMR 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(see http://www.heartstats.org/temp/Tabsp1.6spweb06spup.XLS)”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will need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ritical apprais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ocumented (appendic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data gathering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is phase of a modelling project is critical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feasi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the quality of the final product (the principle of “garbage IN, garbage OUT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is time consuming: it will take a large amount of the available resource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t as any activity in a modelling exercise, data gathering is an ITER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We start simple, and we add layers of greater complexity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1:13:36Z</dcterms:created>
  <dc:creator>O'Flaherty</dc:creator>
  <dc:description/>
  <dc:language>en-US</dc:language>
  <cp:lastModifiedBy>Computing Services</cp:lastModifiedBy>
  <dcterms:modified xsi:type="dcterms:W3CDTF">2008-04-14T10:12:33Z</dcterms:modified>
  <cp:revision>8</cp:revision>
  <dc:subject/>
  <dc:title>Data Needs for a Model</dc:title>
</cp:coreProperties>
</file>